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5.png" ContentType="image/png"/>
  <Override PartName="/ppt/media/image10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8.png" ContentType="image/png"/>
  <Override PartName="/ppt/media/image14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59AC3-6A6D-483E-8ECD-5B3B4B416B4C}" type="datetime">
              <a:rPr b="0" lang="en-GB" sz="1200" spc="-1" strike="noStrike">
                <a:solidFill>
                  <a:srgbClr val="000000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A9895-B779-4FEE-B3A6-37ADE7A74AB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DB8D5-9278-472F-BCCF-C3DF7B0CD75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B7A8-CEE1-4A72-93D6-4380239B4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DED6-3AE7-433C-9DEF-887877C3D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C638-FEA7-441C-9EDB-BA22CED30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63CD-9BFF-4ECF-A984-F0FAED34E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A18FE-EDB9-4E2F-A420-40FC691CF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F5683-FE9A-4EB7-BA82-E1B059964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8CE3B-CBFE-4AC7-BC45-2418A8C0F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2DEFF-6BD3-4ED6-8751-666AB802C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95819-9A71-416A-840F-5626C1A2C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EFAF7-83F5-4D11-82D4-D62DF6457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80514-F4F4-4607-BBA1-819C96564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3069-B6CE-4429-AB5A-B7D09BAE0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C14EE-DCD7-4766-86C0-1B95D38A2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F8534-31A8-4376-8013-15A3DCDC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7702F-270A-4FB6-885A-C87A19F94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A7CE6-9CBF-425F-BA07-0E9FCFC68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F26AB-D80D-4367-9FF7-F65EA8383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A1E39-667C-4206-940C-650949A7E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065C4-F545-49B8-A4CB-1B3FBC13D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9389C-7EA5-4EC9-AC83-F5643CCB4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5F34D-54EC-4DF5-BCF2-85F40AD2A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EE593-066D-4E5A-81BF-399369986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A517-57D4-478E-9F91-288016530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16DF6-990E-40C7-85D8-00992C8F7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C78A4-C738-4354-8C42-B3718CA64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3952B-7C2A-43A6-9FA1-2B7FABAA6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9E53D-0C3B-4F60-958F-F58A2BBBD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1C6CC-33F9-4176-BCF7-5A7D3D46E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4B7DC-F57D-4487-8255-066D2FC66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5850B-4DB7-4E58-8EC3-22F2A8FBB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19604-EE43-4D91-9A88-B980C2A41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E4302-84A9-4E50-A8B1-9FBA46EE5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9C382-B256-4631-87E9-F349701F2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7D4B-0023-497F-8A24-797D05DDC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F92FE-20A7-4756-AF97-1D3BA23CA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05FC8-B241-4F70-81FB-CFDE81275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53ADB-8D15-43A2-BE92-4675BDC26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E595B-699B-428C-9B57-6F6C6F4D4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F9F20-AF02-437F-8AA3-2E8F9A909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11461-DC94-40D2-89BF-A8CEC4A96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A8D4D-2177-4935-88BC-9D40CB026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B7437-40CD-4AA8-AE92-6E1E790FF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79B93-DFB9-478F-8253-3A91D043E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6544-B9DE-44E9-A649-E964DCE86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A981-AEFD-4202-9376-C4FC122FB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4DFD-3175-4CA2-9CF7-D2C8B1EFB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C68E-1392-47F4-B6C7-621B2F25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3C61-3365-4AD1-9E8C-E87152CBF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599F2-EE33-412B-934D-18B64CA75BE0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2C203-8B43-4C2E-9E73-02BDE6FB24E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244AB-18B4-487D-A538-5FA8630910D8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CAC1F-6DDE-427B-8668-4E84FC181872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D808F-1926-403A-A392-44B75FEED809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39D3C-2039-41E2-89B3-7EAC461B2F60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747A9-57A5-4048-91AC-82AE5FFB5C31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57C4D-6EA9-4781-82CB-3ECC8CD4034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newsobserver.com/weather/drought/story/1016009.html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2"/>
          <a:stretch/>
        </p:blipFill>
        <p:spPr>
          <a:xfrm>
            <a:off x="530280" y="1365120"/>
            <a:ext cx="7888320" cy="19576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J Development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TextBox 3" descr=""/>
          <p:cNvPicPr/>
          <p:nvPr/>
        </p:nvPicPr>
        <p:blipFill>
          <a:blip r:embed="rId3"/>
          <a:stretch/>
        </p:blipFill>
        <p:spPr>
          <a:xfrm>
            <a:off x="2664000" y="4413240"/>
            <a:ext cx="374328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How to calculate Surface Are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Surface area of an open cylinder is calculated by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2776680" indent="-3556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(2πr × h) + (π × r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76680" indent="-3556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en r = radius of the cylinder’s base circ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76680" indent="-3556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 = the height of the cylind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24" name="Magnetic Disk 6"/>
          <p:cNvGrpSpPr/>
          <p:nvPr/>
        </p:nvGrpSpPr>
        <p:grpSpPr>
          <a:xfrm>
            <a:off x="615960" y="2554200"/>
            <a:ext cx="2048040" cy="3956040"/>
            <a:chOff x="615960" y="2554200"/>
            <a:chExt cx="2048040" cy="3956040"/>
          </a:xfrm>
        </p:grpSpPr>
        <p:pic>
          <p:nvPicPr>
            <p:cNvPr id="225" name="Magnetic Disk 6" descr=""/>
            <p:cNvPicPr/>
            <p:nvPr/>
          </p:nvPicPr>
          <p:blipFill>
            <a:blip r:embed="rId2"/>
            <a:stretch/>
          </p:blipFill>
          <p:spPr>
            <a:xfrm>
              <a:off x="615960" y="2554200"/>
              <a:ext cx="2048040" cy="395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685800" y="3860640"/>
              <a:ext cx="190512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27" name="Straight Arrow Connector 8"/>
          <p:cNvCxnSpPr/>
          <p:nvPr/>
        </p:nvCxnSpPr>
        <p:spPr>
          <a:xfrm>
            <a:off x="1600200" y="3123720"/>
            <a:ext cx="991440" cy="2520"/>
          </a:xfrm>
          <a:prstGeom prst="straightConnector1">
            <a:avLst/>
          </a:prstGeom>
          <a:ln w="25560">
            <a:solidFill>
              <a:srgbClr val="0f6fc6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28" name="Straight Arrow Connector 10"/>
          <p:cNvCxnSpPr/>
          <p:nvPr/>
        </p:nvCxnSpPr>
        <p:spPr>
          <a:xfrm>
            <a:off x="1635480" y="3862080"/>
            <a:ext cx="3960" cy="2540520"/>
          </a:xfrm>
          <a:prstGeom prst="straightConnector1">
            <a:avLst/>
          </a:prstGeom>
          <a:ln w="25560">
            <a:solidFill>
              <a:srgbClr val="0f6fc6"/>
            </a:solidFill>
            <a:miter/>
            <a:headEnd len="med" type="arrow" w="med"/>
            <a:tailEnd len="med" type="arrow" w="med"/>
          </a:ln>
        </p:spPr>
      </p:cxnSp>
      <p:sp>
        <p:nvSpPr>
          <p:cNvPr id="229" name="TextBox 11"/>
          <p:cNvSpPr/>
          <p:nvPr/>
        </p:nvSpPr>
        <p:spPr>
          <a:xfrm>
            <a:off x="1828800" y="28195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2"/>
          <p:cNvSpPr/>
          <p:nvPr/>
        </p:nvSpPr>
        <p:spPr>
          <a:xfrm>
            <a:off x="1066680" y="48006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How to calculate volu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he volume of a cylinder that has a radius of r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260496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π × r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× 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60496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ince a cylinder is a prism, the volume =  base area × heigh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33" name="Magnetic Disk 3"/>
          <p:cNvGrpSpPr/>
          <p:nvPr/>
        </p:nvGrpSpPr>
        <p:grpSpPr>
          <a:xfrm>
            <a:off x="615960" y="2554200"/>
            <a:ext cx="2048040" cy="3956040"/>
            <a:chOff x="615960" y="2554200"/>
            <a:chExt cx="2048040" cy="3956040"/>
          </a:xfrm>
        </p:grpSpPr>
        <p:pic>
          <p:nvPicPr>
            <p:cNvPr id="234" name="Magnetic Disk 3" descr=""/>
            <p:cNvPicPr/>
            <p:nvPr/>
          </p:nvPicPr>
          <p:blipFill>
            <a:blip r:embed="rId2"/>
            <a:stretch/>
          </p:blipFill>
          <p:spPr>
            <a:xfrm>
              <a:off x="615960" y="2554200"/>
              <a:ext cx="2048040" cy="395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685800" y="3860640"/>
              <a:ext cx="190512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36" name="Straight Arrow Connector 4"/>
          <p:cNvCxnSpPr/>
          <p:nvPr/>
        </p:nvCxnSpPr>
        <p:spPr>
          <a:xfrm>
            <a:off x="1600200" y="3123720"/>
            <a:ext cx="991440" cy="2520"/>
          </a:xfrm>
          <a:prstGeom prst="straightConnector1">
            <a:avLst/>
          </a:prstGeom>
          <a:ln w="25560">
            <a:solidFill>
              <a:srgbClr val="0f6fc6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37" name="Straight Arrow Connector 5"/>
          <p:cNvCxnSpPr/>
          <p:nvPr/>
        </p:nvCxnSpPr>
        <p:spPr>
          <a:xfrm>
            <a:off x="1635480" y="3862080"/>
            <a:ext cx="3960" cy="2540520"/>
          </a:xfrm>
          <a:prstGeom prst="straightConnector1">
            <a:avLst/>
          </a:prstGeom>
          <a:ln w="25560">
            <a:solidFill>
              <a:srgbClr val="0f6fc6"/>
            </a:solidFill>
            <a:miter/>
            <a:headEnd len="med" type="arrow" w="med"/>
            <a:tailEnd len="med" type="arrow" w="med"/>
          </a:ln>
        </p:spPr>
      </p:cxnSp>
      <p:sp>
        <p:nvSpPr>
          <p:cNvPr id="238" name="TextBox 11"/>
          <p:cNvSpPr/>
          <p:nvPr/>
        </p:nvSpPr>
        <p:spPr>
          <a:xfrm>
            <a:off x="1828800" y="28195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12"/>
          <p:cNvSpPr/>
          <p:nvPr/>
        </p:nvSpPr>
        <p:spPr>
          <a:xfrm>
            <a:off x="1066680" y="48006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Calcul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otal amount of water needed for entire villag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265L × 4 people × 50 families × 14 days = 742 000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Volume of storage tank: 742 000L of water = 742 m</a:t>
            </a:r>
            <a:r>
              <a:rPr b="0" lang="en-GB" sz="2600" spc="-1" strike="noStrike" baseline="30000">
                <a:solidFill>
                  <a:srgbClr val="000000"/>
                </a:solidFill>
                <a:latin typeface="Constantia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his estimation has more water capacity than is necessary because there is an extra 2 litres for every pers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Best Choice for Water Tan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457200" y="1752480"/>
          <a:ext cx="8305920" cy="4645080"/>
        </p:xfrm>
        <a:graphic>
          <a:graphicData uri="http://schemas.openxmlformats.org/drawingml/2006/table">
            <a:tbl>
              <a:tblPr/>
              <a:tblGrid>
                <a:gridCol w="838080"/>
                <a:gridCol w="1067040"/>
                <a:gridCol w="758880"/>
                <a:gridCol w="993600"/>
                <a:gridCol w="914400"/>
                <a:gridCol w="1219320"/>
                <a:gridCol w="1365120"/>
                <a:gridCol w="1149480"/>
              </a:tblGrid>
              <a:tr h="42228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adius (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ase Area (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nstantia"/>
                          <a:ea typeface="Verdana"/>
                        </a:rPr>
                        <a:t>m</a:t>
                      </a:r>
                      <a:r>
                        <a:rPr b="0" lang="en-GB" sz="1200" spc="-1" strike="noStrike" baseline="30000">
                          <a:solidFill>
                            <a:srgbClr val="000000"/>
                          </a:solidFill>
                          <a:latin typeface="Constantia"/>
                          <a:ea typeface="Verdana"/>
                        </a:rPr>
                        <a:t>2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nstantia"/>
                          <a:ea typeface="Verdana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eight (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 (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nstantia"/>
                          <a:ea typeface="Verdana"/>
                        </a:rPr>
                        <a:t>m</a:t>
                      </a:r>
                      <a:r>
                        <a:rPr b="0" lang="en-GB" sz="1200" spc="-1" strike="noStrike" baseline="30000">
                          <a:solidFill>
                            <a:srgbClr val="000000"/>
                          </a:solidFill>
                          <a:latin typeface="Constantia"/>
                          <a:ea typeface="Verdana"/>
                        </a:rPr>
                        <a:t>2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nstantia"/>
                          <a:ea typeface="Verdana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  <a:ea typeface="Verdana"/>
                        </a:rPr>
                        <a:t>TSA (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nstantia"/>
                          <a:ea typeface="Verdana"/>
                        </a:rPr>
                        <a:t>m</a:t>
                      </a:r>
                      <a:r>
                        <a:rPr b="0" lang="en-GB" sz="1200" spc="-1" strike="noStrike" baseline="30000">
                          <a:solidFill>
                            <a:srgbClr val="000000"/>
                          </a:solidFill>
                          <a:latin typeface="Constantia"/>
                          <a:ea typeface="Verdana"/>
                        </a:rPr>
                        <a:t>2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nstantia"/>
                          <a:ea typeface="Verdana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ost of Metal ($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ost of Concrete ($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otal Cost ($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228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4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4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8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1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228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5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1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6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228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3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3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17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</a:tr>
              <a:tr h="42228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8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4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33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bd0d9"/>
                    </a:solidFill>
                  </a:tcPr>
                </a:tc>
              </a:tr>
              <a:tr h="42228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2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12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65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228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59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1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228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14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65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228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4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77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31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228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8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47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06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228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4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26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91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Justific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5" name="Content Placeholder 3" descr="watertank.jpg"/>
          <p:cNvPicPr/>
          <p:nvPr/>
        </p:nvPicPr>
        <p:blipFill>
          <a:blip r:embed="rId2"/>
          <a:srcRect l="-5907" t="0" r="-5907" b="0"/>
          <a:stretch/>
        </p:blipFill>
        <p:spPr>
          <a:xfrm>
            <a:off x="457200" y="1920960"/>
            <a:ext cx="4038480" cy="443376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With a radius of 3m, the height of the cylinder would have to be 28m to be able to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ccommodate 742 000L of wat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ith a radius of  4m, the stability of the structure is increased and the height of the water tank is  lowered to 15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Justific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85800" y="2209320"/>
            <a:ext cx="7770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Viability vs. Cos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s it really that good to have a 26m structure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s it </a:t>
            </a:r>
            <a:r>
              <a:rPr b="0" i="1" lang="en-GB" sz="2400" spc="-1" strike="noStrike">
                <a:solidFill>
                  <a:srgbClr val="000000"/>
                </a:solidFill>
                <a:latin typeface="Constantia"/>
              </a:rPr>
              <a:t>possible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to have a 26m structure that will hold its weight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Amount of water used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eeway for water use of people in case they need more wat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Level of Accuracy (nearest whole number)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asier to see the difference between figur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Our Storage Tan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as a capacity of 742 000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Is in the shape of a cylind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Dimension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Radius: 4 metr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Height: 15 metr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1" name="Picture 7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312408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Title 5" descr=""/>
          <p:cNvPicPr/>
          <p:nvPr/>
        </p:nvPicPr>
        <p:blipFill>
          <a:blip r:embed="rId2"/>
          <a:stretch/>
        </p:blipFill>
        <p:spPr>
          <a:xfrm>
            <a:off x="476280" y="1311120"/>
            <a:ext cx="7832520" cy="149256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Starting Ques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hat kind of grain are we storing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ow much grain are we putting in storage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What kind of shape is the best for storing the grain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Answering Ques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hat kind of grain are we storing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G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rain can be used to make many types of foo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ice, corn, oats, ry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rea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r our purposes, we’ll pretend that we’re storing ri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Our Proces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Researc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Consolid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Answe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Answering Ques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How much grain are we putting in storage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he space that the cooked rice takes up is 3-4 times the space that uncooked rice takes up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ach person eats about 300cm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nstanti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of cooked rice per meal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300cm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nstanti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of cooked rice ≈ 100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of uncooked ri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Answering Ques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What kind of shape is best for storing the grain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Real life examp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Cylinder has the largest area for a fixed perimet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Cylinders are also used for sil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Examples of Grain Storag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3" name="Content Placeholder 10" descr="silos and lorry.JPG"/>
          <p:cNvPicPr/>
          <p:nvPr/>
        </p:nvPicPr>
        <p:blipFill>
          <a:blip r:embed="rId2"/>
          <a:srcRect l="0" t="-17698" r="0" b="-17698"/>
          <a:stretch/>
        </p:blipFill>
        <p:spPr>
          <a:xfrm>
            <a:off x="457200" y="1920960"/>
            <a:ext cx="4038480" cy="4433760"/>
          </a:xfrm>
          <a:prstGeom prst="rect">
            <a:avLst/>
          </a:prstGeom>
          <a:ln w="0">
            <a:noFill/>
          </a:ln>
        </p:spPr>
      </p:pic>
      <p:pic>
        <p:nvPicPr>
          <p:cNvPr id="264" name="Content Placeholder 11" descr="hog grain storage.jpg"/>
          <p:cNvPicPr/>
          <p:nvPr/>
        </p:nvPicPr>
        <p:blipFill>
          <a:blip r:embed="rId3"/>
          <a:srcRect l="0" t="-24477" r="0" b="-24477"/>
          <a:stretch/>
        </p:blipFill>
        <p:spPr>
          <a:xfrm>
            <a:off x="4648320" y="1920960"/>
            <a:ext cx="4038480" cy="4433760"/>
          </a:xfrm>
          <a:prstGeom prst="rect">
            <a:avLst/>
          </a:prstGeom>
          <a:ln w="0">
            <a:noFill/>
          </a:ln>
        </p:spPr>
      </p:pic>
      <p:sp>
        <p:nvSpPr>
          <p:cNvPr id="265" name="TextBox 8"/>
          <p:cNvSpPr/>
          <p:nvPr/>
        </p:nvSpPr>
        <p:spPr>
          <a:xfrm>
            <a:off x="685800" y="5791320"/>
            <a:ext cx="35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ttp://www.dengie-crops.com/media/silos%20and%20lorry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9"/>
          <p:cNvSpPr/>
          <p:nvPr/>
        </p:nvSpPr>
        <p:spPr>
          <a:xfrm>
            <a:off x="4724280" y="56293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ttp://www.mawaterquality.org/gallery/photos/hog%20grain%20storage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Calcul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100cm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nstantia"/>
              </a:rPr>
              <a:t>3 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uncooked rice × 3 meals × 4 people × 50 families × 14 days = 840 000 cm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nstantia"/>
              </a:rPr>
              <a:t>3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of uncooked ri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840 000cm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nstantia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= 0.84m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nstanti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hed has to have a volume of 0.84m</a:t>
            </a:r>
            <a:r>
              <a:rPr b="0" lang="en-GB" sz="2600" spc="-1" strike="noStrike" baseline="30000">
                <a:solidFill>
                  <a:srgbClr val="000000"/>
                </a:solidFill>
                <a:latin typeface="Constantia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round to 1m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nstanti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Best Choice for Grain Storag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457200" y="1935000"/>
          <a:ext cx="8229600" cy="4465800"/>
        </p:xfrm>
        <a:graphic>
          <a:graphicData uri="http://schemas.openxmlformats.org/drawingml/2006/table">
            <a:tbl>
              <a:tblPr/>
              <a:tblGrid>
                <a:gridCol w="822240"/>
                <a:gridCol w="824040"/>
                <a:gridCol w="822240"/>
                <a:gridCol w="824040"/>
                <a:gridCol w="822240"/>
                <a:gridCol w="822240"/>
                <a:gridCol w="824040"/>
                <a:gridCol w="822240"/>
                <a:gridCol w="824040"/>
                <a:gridCol w="822240"/>
              </a:tblGrid>
              <a:tr h="39240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adi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ase Ar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eigh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ircumfere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 of Heigh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ost of Me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oncr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oncrete Co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otal Co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04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80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4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60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41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0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</a:tr>
              <a:tr h="39204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7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44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</a:tr>
              <a:tr h="39204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04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57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04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25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60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1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0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04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86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792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6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79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04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2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79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Justific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-609840" y="-360"/>
            <a:ext cx="152388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560" y="5181480"/>
            <a:ext cx="3429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With radius of 0.2 the height have to be 8 to hold </a:t>
            </a: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0.84m</a:t>
            </a:r>
            <a:r>
              <a:rPr b="0" lang="en-GB" sz="2200" spc="-1" strike="noStrike" baseline="30000">
                <a:solidFill>
                  <a:srgbClr val="000000"/>
                </a:solidFill>
                <a:latin typeface="Constantia"/>
              </a:rPr>
              <a:t>3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533520" y="1600200"/>
            <a:ext cx="2819160" cy="335268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4267080" y="1676520"/>
            <a:ext cx="3667320" cy="322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6" name=""/>
          <p:cNvGraphicFramePr/>
          <p:nvPr/>
        </p:nvGraphicFramePr>
        <p:xfrm>
          <a:off x="4114800" y="5181480"/>
          <a:ext cx="4267080" cy="1371600"/>
        </p:xfrm>
        <a:graphic>
          <a:graphicData uri="http://schemas.openxmlformats.org/drawingml/2006/table">
            <a:tbl>
              <a:tblPr/>
              <a:tblGrid>
                <a:gridCol w="426708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o have a structure with stability have to be radius of 0.3 and height of 3.5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Justific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80880" y="19807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Having a same cost stability will be bett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So having lower height with longer radius is safer to hold the weigh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It has plenty of space to put in a lot of grai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Our Grain Sil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s cylindric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as a capacity of 1m</a:t>
            </a:r>
            <a:r>
              <a:rPr b="0" lang="en-GB" sz="2600" spc="-1" strike="noStrike" baseline="30000">
                <a:solidFill>
                  <a:srgbClr val="000000"/>
                </a:solidFill>
                <a:latin typeface="Constantia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Dimensions:3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Cost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f metal sheet: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97.3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f concrete: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144.8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How many people in a family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.61 children born/woman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(CIA World Factbook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ound down to 2 childre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dd 2 pare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quals 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people in a family!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How did we get our numbers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Base area: π × r</a:t>
            </a:r>
            <a:r>
              <a:rPr b="0" lang="en-GB" sz="2600" spc="-1" strike="noStrike" baseline="30000">
                <a:solidFill>
                  <a:srgbClr val="000000"/>
                </a:solidFill>
                <a:latin typeface="Constantia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Height: Volume needed (m</a:t>
            </a:r>
            <a:r>
              <a:rPr b="0" lang="en-GB" sz="2600" spc="-1" strike="noStrike" baseline="30000">
                <a:solidFill>
                  <a:srgbClr val="000000"/>
                </a:solidFill>
                <a:latin typeface="Constantia"/>
              </a:rPr>
              <a:t>3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) ÷ base are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Cost of metal: $ (14 × base area × height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Volume of concrete: (radius + 0.3m)</a:t>
            </a:r>
            <a:r>
              <a:rPr b="0" lang="en-GB" sz="2600" spc="-1" strike="noStrike" baseline="30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× 0.2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Cost of concrete: $ (640 × volume of concrete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otal cost: $ (Cost of metal + cost of concrete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Title 3" descr=""/>
          <p:cNvPicPr/>
          <p:nvPr/>
        </p:nvPicPr>
        <p:blipFill>
          <a:blip r:embed="rId2"/>
          <a:stretch/>
        </p:blipFill>
        <p:spPr>
          <a:xfrm>
            <a:off x="476280" y="1311120"/>
            <a:ext cx="7832520" cy="149256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Starting Ques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How much water does each person use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What do we use water for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What is the best shape to store water in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Answering Ques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What do we use water for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rink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ath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ashing (dishes, laundry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oile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Cook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Answering Ques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85800" y="2286000"/>
            <a:ext cx="77709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How much water does an average person use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Internet research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http://www.newsobserver.com/weather/drought/story/1016009.html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69.3 gallons per person for indoor purpos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47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laundry, shower, toilets, cooking, drinking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Convert into litr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1 gallon = 3.78541178 litres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69.3 gallons ≈</a:t>
            </a:r>
            <a:r>
              <a:rPr b="0" lang="en-US" sz="2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ＭＳ ゴシック"/>
              </a:rPr>
              <a:t>263 litr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47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  <a:ea typeface="ＭＳ ゴシック"/>
              </a:rPr>
              <a:t>Leeway: 263 ± 2 litres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nswering Ques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hat is the best shape to store water in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erimeter and Circumference vs. Area (of 2-D object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ircle vs. Squar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Real life exampl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A cylinder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s the best shape to store water i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Content Placeholder 5" descr="{72ED8FC0-2FE1-4FAB-AAE2-484FF1A30A82}.JPG"/>
          <p:cNvPicPr/>
          <p:nvPr/>
        </p:nvPicPr>
        <p:blipFill>
          <a:blip r:embed="rId2"/>
          <a:srcRect l="-19287" t="0" r="-19287" b="0"/>
          <a:stretch/>
        </p:blipFill>
        <p:spPr>
          <a:xfrm>
            <a:off x="4648320" y="1920960"/>
            <a:ext cx="4038480" cy="44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30T13:53:48Z</dcterms:created>
  <dc:creator>Cara Leong</dc:creator>
  <dc:description/>
  <dc:language>en-US</dc:language>
  <cp:lastModifiedBy>遐想 1.0</cp:lastModifiedBy>
  <dcterms:modified xsi:type="dcterms:W3CDTF">2002-01-01T14:58:29Z</dcterms:modified>
  <cp:revision>18</cp:revision>
  <dc:subject/>
  <dc:title>Storage Facilities</dc:title>
</cp:coreProperties>
</file>